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2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charts/chart12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1" spc="-1" strike="noStrike">
                <a:solidFill>
                  <a:srgbClr val="000000"/>
                </a:solidFill>
                <a:latin typeface="Arial"/>
              </a:defRPr>
            </a:pPr>
            <a:r>
              <a:rPr b="0" sz="1081" spc="-1" strike="noStrike">
                <a:solidFill>
                  <a:srgbClr val="000000"/>
                </a:solidFill>
                <a:latin typeface="Arial"/>
              </a:rPr>
              <a:t>EERM MARÇO MATUTINO</a:t>
            </a:r>
          </a:p>
        </c:rich>
      </c:tx>
      <c:layout>
        <c:manualLayout>
          <c:xMode val="edge"/>
          <c:yMode val="edge"/>
          <c:x val="0.45766854806453"/>
          <c:y val="0.019865067466266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55797101449275"/>
          <c:w val="0.959912892760322"/>
          <c:h val="0.82308845577211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8</c:v>
                </c:pt>
                <c:pt idx="3">
                  <c:v>12</c:v>
                </c:pt>
                <c:pt idx="4">
                  <c:v>8</c:v>
                </c:pt>
                <c:pt idx="5">
                  <c:v>2</c:v>
                </c:pt>
                <c:pt idx="6">
                  <c:v>2</c:v>
                </c:pt>
                <c:pt idx="7">
                  <c:v>7</c:v>
                </c:pt>
                <c:pt idx="8">
                  <c:v>2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66037735849057</c:v>
                </c:pt>
                <c:pt idx="1">
                  <c:v>4.90566037735849</c:v>
                </c:pt>
                <c:pt idx="2">
                  <c:v>13.3962264150943</c:v>
                </c:pt>
                <c:pt idx="3">
                  <c:v>12.0754716981132</c:v>
                </c:pt>
                <c:pt idx="4">
                  <c:v>6.9811320754717</c:v>
                </c:pt>
                <c:pt idx="5">
                  <c:v>6.9811320754717</c:v>
                </c:pt>
                <c:pt idx="6">
                  <c:v>4.15094339622642</c:v>
                </c:pt>
                <c:pt idx="7">
                  <c:v>5.47169811320755</c:v>
                </c:pt>
                <c:pt idx="8">
                  <c:v>1.50943396226415</c:v>
                </c:pt>
                <c:pt idx="9">
                  <c:v>1.88679245283019</c:v>
                </c:pt>
                <c:pt idx="10">
                  <c:v>1.88679245283019</c:v>
                </c:pt>
                <c:pt idx="11">
                  <c:v>1.50943396226415</c:v>
                </c:pt>
                <c:pt idx="12">
                  <c:v>0.754716981132075</c:v>
                </c:pt>
                <c:pt idx="13">
                  <c:v>0.754716981132075</c:v>
                </c:pt>
                <c:pt idx="14">
                  <c:v>1.32075471698113</c:v>
                </c:pt>
                <c:pt idx="15">
                  <c:v>0.754716981132075</c:v>
                </c:pt>
              </c:numCache>
            </c:numRef>
          </c:val>
        </c:ser>
        <c:gapWidth val="100"/>
        <c:overlap val="0"/>
        <c:axId val="68405111"/>
        <c:axId val="69196433"/>
      </c:barChart>
      <c:catAx>
        <c:axId val="6840511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96433"/>
        <c:crossesAt val="0"/>
        <c:auto val="1"/>
        <c:lblAlgn val="ctr"/>
        <c:lblOffset val="100"/>
        <c:noMultiLvlLbl val="0"/>
      </c:catAx>
      <c:valAx>
        <c:axId val="69196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0511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EERM ABRIL NOTURNO</a:t>
            </a:r>
          </a:p>
        </c:rich>
      </c:tx>
      <c:layout>
        <c:manualLayout>
          <c:xMode val="edge"/>
          <c:yMode val="edge"/>
          <c:x val="0.403759832896316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5</c:v>
                </c:pt>
                <c:pt idx="2">
                  <c:v>4</c:v>
                </c:pt>
                <c:pt idx="3">
                  <c:v>5</c:v>
                </c:pt>
                <c:pt idx="4">
                  <c:v>11</c:v>
                </c:pt>
                <c:pt idx="5">
                  <c:v>4</c:v>
                </c:pt>
                <c:pt idx="6">
                  <c:v>2</c:v>
                </c:pt>
                <c:pt idx="7">
                  <c:v>1</c:v>
                </c:pt>
                <c:pt idx="8">
                  <c:v>4</c:v>
                </c:pt>
                <c:pt idx="9">
                  <c:v>3</c:v>
                </c:pt>
                <c:pt idx="10">
                  <c:v>5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91566265060241</c:v>
                </c:pt>
                <c:pt idx="1">
                  <c:v>2.91566265060241</c:v>
                </c:pt>
                <c:pt idx="2">
                  <c:v>10.3373493975904</c:v>
                </c:pt>
                <c:pt idx="3">
                  <c:v>9.5421686746988</c:v>
                </c:pt>
                <c:pt idx="4">
                  <c:v>6.62650602409639</c:v>
                </c:pt>
                <c:pt idx="5">
                  <c:v>6.62650602409639</c:v>
                </c:pt>
                <c:pt idx="6">
                  <c:v>6.62650602409639</c:v>
                </c:pt>
                <c:pt idx="7">
                  <c:v>2.3855421686747</c:v>
                </c:pt>
                <c:pt idx="8">
                  <c:v>4.24096385542169</c:v>
                </c:pt>
                <c:pt idx="9">
                  <c:v>5.03614457831325</c:v>
                </c:pt>
                <c:pt idx="10">
                  <c:v>4.50602409638554</c:v>
                </c:pt>
                <c:pt idx="11">
                  <c:v>2.12048192771084</c:v>
                </c:pt>
                <c:pt idx="12">
                  <c:v>1.32530120481928</c:v>
                </c:pt>
                <c:pt idx="13">
                  <c:v>0.795180722891566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34162781"/>
        <c:axId val="59882605"/>
      </c:barChart>
      <c:catAx>
        <c:axId val="3416278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82605"/>
        <c:crossesAt val="0"/>
        <c:auto val="1"/>
        <c:lblAlgn val="ctr"/>
        <c:lblOffset val="100"/>
        <c:noMultiLvlLbl val="0"/>
      </c:catAx>
      <c:valAx>
        <c:axId val="59882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6278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EERM MAIO NOTURNO</a:t>
            </a:r>
          </a:p>
        </c:rich>
      </c:tx>
      <c:layout>
        <c:manualLayout>
          <c:xMode val="edge"/>
          <c:yMode val="edge"/>
          <c:x val="0.40407093018088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0</c:v>
                </c:pt>
                <c:pt idx="2">
                  <c:v>0</c:v>
                </c:pt>
                <c:pt idx="3">
                  <c:v>8</c:v>
                </c:pt>
                <c:pt idx="4">
                  <c:v>4</c:v>
                </c:pt>
                <c:pt idx="5">
                  <c:v>0</c:v>
                </c:pt>
                <c:pt idx="6">
                  <c:v>1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3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98795180722892</c:v>
                </c:pt>
                <c:pt idx="1">
                  <c:v>1.98795180722892</c:v>
                </c:pt>
                <c:pt idx="2">
                  <c:v>7.04819277108434</c:v>
                </c:pt>
                <c:pt idx="3">
                  <c:v>6.50602409638554</c:v>
                </c:pt>
                <c:pt idx="4">
                  <c:v>3.79518072289157</c:v>
                </c:pt>
                <c:pt idx="5">
                  <c:v>4.51807228915663</c:v>
                </c:pt>
                <c:pt idx="6">
                  <c:v>3.79518072289157</c:v>
                </c:pt>
                <c:pt idx="7">
                  <c:v>1.62650602409639</c:v>
                </c:pt>
                <c:pt idx="8">
                  <c:v>2.89156626506024</c:v>
                </c:pt>
                <c:pt idx="9">
                  <c:v>3.43373493975904</c:v>
                </c:pt>
                <c:pt idx="10">
                  <c:v>3.07228915662651</c:v>
                </c:pt>
                <c:pt idx="11">
                  <c:v>1.44578313253012</c:v>
                </c:pt>
                <c:pt idx="12">
                  <c:v>1.62650602409639</c:v>
                </c:pt>
                <c:pt idx="13">
                  <c:v>1.26506024096386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89546598"/>
        <c:axId val="37230819"/>
      </c:barChart>
      <c:catAx>
        <c:axId val="8954659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30819"/>
        <c:crossesAt val="0"/>
        <c:auto val="1"/>
        <c:lblAlgn val="ctr"/>
        <c:lblOffset val="100"/>
        <c:noMultiLvlLbl val="0"/>
      </c:catAx>
      <c:valAx>
        <c:axId val="37230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4659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1" spc="-1" strike="noStrike">
                <a:solidFill>
                  <a:srgbClr val="000000"/>
                </a:solidFill>
                <a:latin typeface="Arial"/>
              </a:defRPr>
            </a:pPr>
            <a:r>
              <a:rPr b="1" sz="1491" spc="-1" strike="noStrike">
                <a:solidFill>
                  <a:srgbClr val="000000"/>
                </a:solidFill>
                <a:latin typeface="Arial"/>
              </a:rPr>
              <a:t>EERM  NOTURNO</a:t>
            </a:r>
          </a:p>
        </c:rich>
      </c:tx>
      <c:layout>
        <c:manualLayout>
          <c:xMode val="edge"/>
          <c:yMode val="edge"/>
          <c:x val="0.369939113817164"/>
          <c:y val="0.020282816740465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55820597058"/>
          <c:w val="0.959912892760322"/>
          <c:h val="0.7700328524496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10</c:v>
                </c:pt>
                <c:pt idx="2">
                  <c:v>3</c:v>
                </c:pt>
                <c:pt idx="3">
                  <c:v>0</c:v>
                </c:pt>
                <c:pt idx="4">
                  <c:v>7</c:v>
                </c:pt>
                <c:pt idx="5">
                  <c:v>0</c:v>
                </c:pt>
                <c:pt idx="6">
                  <c:v>2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3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00401606425703</c:v>
                </c:pt>
                <c:pt idx="1">
                  <c:v>3.00401606425703</c:v>
                </c:pt>
                <c:pt idx="2">
                  <c:v>10.6506024096386</c:v>
                </c:pt>
                <c:pt idx="3">
                  <c:v>9.83132530120482</c:v>
                </c:pt>
                <c:pt idx="4">
                  <c:v>5.73493975903615</c:v>
                </c:pt>
                <c:pt idx="5">
                  <c:v>6.82730923694779</c:v>
                </c:pt>
                <c:pt idx="6">
                  <c:v>5.73493975903615</c:v>
                </c:pt>
                <c:pt idx="7">
                  <c:v>2.45783132530121</c:v>
                </c:pt>
                <c:pt idx="8">
                  <c:v>4.36947791164659</c:v>
                </c:pt>
                <c:pt idx="9">
                  <c:v>5.18875502008032</c:v>
                </c:pt>
                <c:pt idx="10">
                  <c:v>4.6425702811245</c:v>
                </c:pt>
                <c:pt idx="11">
                  <c:v>2.18473895582329</c:v>
                </c:pt>
                <c:pt idx="12">
                  <c:v>2.45783132530121</c:v>
                </c:pt>
                <c:pt idx="13">
                  <c:v>1.91164658634538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84227524"/>
        <c:axId val="46739747"/>
      </c:barChart>
      <c:catAx>
        <c:axId val="8422752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39747"/>
        <c:crossesAt val="0"/>
        <c:auto val="1"/>
        <c:lblAlgn val="ctr"/>
        <c:lblOffset val="100"/>
        <c:noMultiLvlLbl val="0"/>
      </c:catAx>
      <c:valAx>
        <c:axId val="46739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2752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EERM ABRIL MATUTINO</a:t>
            </a:r>
          </a:p>
        </c:rich>
      </c:tx>
      <c:layout>
        <c:manualLayout>
          <c:xMode val="edge"/>
          <c:yMode val="edge"/>
          <c:x val="0.43799530703502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29645371231"/>
          <c:y val="0.209223847019123"/>
          <c:w val="0.959976977907646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5</c:v>
                </c:pt>
                <c:pt idx="2">
                  <c:v>12</c:v>
                </c:pt>
                <c:pt idx="3">
                  <c:v>9</c:v>
                </c:pt>
                <c:pt idx="4">
                  <c:v>0</c:v>
                </c:pt>
                <c:pt idx="5">
                  <c:v>3</c:v>
                </c:pt>
                <c:pt idx="6">
                  <c:v>2</c:v>
                </c:pt>
                <c:pt idx="7">
                  <c:v>11</c:v>
                </c:pt>
                <c:pt idx="8">
                  <c:v>3</c:v>
                </c:pt>
                <c:pt idx="9">
                  <c:v>5</c:v>
                </c:pt>
                <c:pt idx="10">
                  <c:v>4</c:v>
                </c:pt>
                <c:pt idx="11">
                  <c:v>7</c:v>
                </c:pt>
                <c:pt idx="12">
                  <c:v>1</c:v>
                </c:pt>
                <c:pt idx="13">
                  <c:v>0</c:v>
                </c:pt>
                <c:pt idx="14">
                  <c:v>0</c:v>
                </c:pt>
                <c:pt idx="15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33692722371968</c:v>
                </c:pt>
                <c:pt idx="1">
                  <c:v>4.62533692722372</c:v>
                </c:pt>
                <c:pt idx="2">
                  <c:v>12.6307277628032</c:v>
                </c:pt>
                <c:pt idx="3">
                  <c:v>11.3854447439353</c:v>
                </c:pt>
                <c:pt idx="4">
                  <c:v>6.5822102425876</c:v>
                </c:pt>
                <c:pt idx="5">
                  <c:v>6.5822102425876</c:v>
                </c:pt>
                <c:pt idx="6">
                  <c:v>3.91374663072776</c:v>
                </c:pt>
                <c:pt idx="7">
                  <c:v>5.15902964959569</c:v>
                </c:pt>
                <c:pt idx="8">
                  <c:v>1.42318059299191</c:v>
                </c:pt>
                <c:pt idx="9">
                  <c:v>1.77897574123989</c:v>
                </c:pt>
                <c:pt idx="10">
                  <c:v>1.77897574123989</c:v>
                </c:pt>
                <c:pt idx="11">
                  <c:v>1.42318059299191</c:v>
                </c:pt>
                <c:pt idx="12">
                  <c:v>0.711590296495957</c:v>
                </c:pt>
                <c:pt idx="13">
                  <c:v>0.711590296495957</c:v>
                </c:pt>
                <c:pt idx="14">
                  <c:v>1.24528301886792</c:v>
                </c:pt>
                <c:pt idx="15">
                  <c:v>0.711590296495957</c:v>
                </c:pt>
              </c:numCache>
            </c:numRef>
          </c:val>
        </c:ser>
        <c:gapWidth val="100"/>
        <c:overlap val="0"/>
        <c:axId val="75164818"/>
        <c:axId val="64027331"/>
      </c:barChart>
      <c:catAx>
        <c:axId val="7516481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27331"/>
        <c:crossesAt val="0"/>
        <c:auto val="1"/>
        <c:lblAlgn val="ctr"/>
        <c:lblOffset val="100"/>
        <c:noMultiLvlLbl val="0"/>
      </c:catAx>
      <c:valAx>
        <c:axId val="64027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6481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EERM MAIO MATUTINO</a:t>
            </a:r>
          </a:p>
        </c:rich>
      </c:tx>
      <c:layout>
        <c:manualLayout>
          <c:xMode val="edge"/>
          <c:yMode val="edge"/>
          <c:x val="0.43820274654459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1</c:v>
                </c:pt>
                <c:pt idx="2">
                  <c:v>0</c:v>
                </c:pt>
                <c:pt idx="3">
                  <c:v>1</c:v>
                </c:pt>
                <c:pt idx="4">
                  <c:v>0</c:v>
                </c:pt>
                <c:pt idx="5">
                  <c:v>1</c:v>
                </c:pt>
                <c:pt idx="6">
                  <c:v>0</c:v>
                </c:pt>
                <c:pt idx="7">
                  <c:v>12</c:v>
                </c:pt>
                <c:pt idx="8">
                  <c:v>4</c:v>
                </c:pt>
                <c:pt idx="9">
                  <c:v>1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39622641509434</c:v>
                </c:pt>
                <c:pt idx="1">
                  <c:v>2.94339622641509</c:v>
                </c:pt>
                <c:pt idx="2">
                  <c:v>8.0377358490566</c:v>
                </c:pt>
                <c:pt idx="3">
                  <c:v>7.24528301886792</c:v>
                </c:pt>
                <c:pt idx="4">
                  <c:v>4.18867924528302</c:v>
                </c:pt>
                <c:pt idx="5">
                  <c:v>4.18867924528302</c:v>
                </c:pt>
                <c:pt idx="6">
                  <c:v>2.49056603773585</c:v>
                </c:pt>
                <c:pt idx="7">
                  <c:v>3.28301886792453</c:v>
                </c:pt>
                <c:pt idx="8">
                  <c:v>0.90566037735849</c:v>
                </c:pt>
                <c:pt idx="9">
                  <c:v>1.13207547169811</c:v>
                </c:pt>
                <c:pt idx="10">
                  <c:v>1.13207547169811</c:v>
                </c:pt>
                <c:pt idx="11">
                  <c:v>0.90566037735849</c:v>
                </c:pt>
                <c:pt idx="12">
                  <c:v>0.452830188679245</c:v>
                </c:pt>
                <c:pt idx="13">
                  <c:v>0.452830188679245</c:v>
                </c:pt>
                <c:pt idx="14">
                  <c:v>0.792452830188679</c:v>
                </c:pt>
                <c:pt idx="15">
                  <c:v>0.452830188679245</c:v>
                </c:pt>
              </c:numCache>
            </c:numRef>
          </c:val>
        </c:ser>
        <c:gapWidth val="100"/>
        <c:overlap val="0"/>
        <c:axId val="25164635"/>
        <c:axId val="98142746"/>
      </c:barChart>
      <c:catAx>
        <c:axId val="2516463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42746"/>
        <c:crossesAt val="0"/>
        <c:auto val="1"/>
        <c:lblAlgn val="ctr"/>
        <c:lblOffset val="100"/>
        <c:noMultiLvlLbl val="0"/>
      </c:catAx>
      <c:valAx>
        <c:axId val="98142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6463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0" spc="-1" strike="noStrike">
                <a:solidFill>
                  <a:srgbClr val="000000"/>
                </a:solidFill>
                <a:latin typeface="Arial"/>
              </a:defRPr>
            </a:pPr>
            <a:r>
              <a:rPr b="1" sz="1490" spc="-1" strike="noStrike">
                <a:solidFill>
                  <a:srgbClr val="000000"/>
                </a:solidFill>
                <a:latin typeface="Arial"/>
              </a:rPr>
              <a:t>EERM  MATUTINO</a:t>
            </a:r>
          </a:p>
        </c:rich>
      </c:tx>
      <c:layout>
        <c:manualLayout>
          <c:xMode val="edge"/>
          <c:yMode val="edge"/>
          <c:x val="0.367139238256078"/>
          <c:y val="0.020263964804692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305425943208"/>
          <c:w val="0.959957335229545"/>
          <c:h val="0.7700306625783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5</c:v>
                </c:pt>
                <c:pt idx="3">
                  <c:v>5</c:v>
                </c:pt>
                <c:pt idx="4">
                  <c:v>0</c:v>
                </c:pt>
                <c:pt idx="5">
                  <c:v>0</c:v>
                </c:pt>
                <c:pt idx="6">
                  <c:v>6</c:v>
                </c:pt>
                <c:pt idx="7">
                  <c:v>3</c:v>
                </c:pt>
                <c:pt idx="8">
                  <c:v>3</c:v>
                </c:pt>
                <c:pt idx="9">
                  <c:v>1</c:v>
                </c:pt>
                <c:pt idx="10">
                  <c:v>1</c:v>
                </c:pt>
                <c:pt idx="11">
                  <c:v>2</c:v>
                </c:pt>
                <c:pt idx="12">
                  <c:v>1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82210242587601</c:v>
                </c:pt>
                <c:pt idx="1">
                  <c:v>5.04582210242587</c:v>
                </c:pt>
                <c:pt idx="2">
                  <c:v>13.7789757412399</c:v>
                </c:pt>
                <c:pt idx="3">
                  <c:v>12.4204851752022</c:v>
                </c:pt>
                <c:pt idx="4">
                  <c:v>7.18059299191375</c:v>
                </c:pt>
                <c:pt idx="5">
                  <c:v>7.18059299191375</c:v>
                </c:pt>
                <c:pt idx="6">
                  <c:v>4.26954177897574</c:v>
                </c:pt>
                <c:pt idx="7">
                  <c:v>5.62803234501348</c:v>
                </c:pt>
                <c:pt idx="8">
                  <c:v>1.55256064690027</c:v>
                </c:pt>
                <c:pt idx="9">
                  <c:v>1.94070080862534</c:v>
                </c:pt>
                <c:pt idx="10">
                  <c:v>1.94070080862534</c:v>
                </c:pt>
                <c:pt idx="11">
                  <c:v>1.55256064690027</c:v>
                </c:pt>
                <c:pt idx="12">
                  <c:v>0.776280323450135</c:v>
                </c:pt>
                <c:pt idx="13">
                  <c:v>0.776280323450135</c:v>
                </c:pt>
                <c:pt idx="14">
                  <c:v>1.35849056603774</c:v>
                </c:pt>
                <c:pt idx="15">
                  <c:v>0.776280323450135</c:v>
                </c:pt>
              </c:numCache>
            </c:numRef>
          </c:val>
        </c:ser>
        <c:gapWidth val="100"/>
        <c:overlap val="0"/>
        <c:axId val="84294647"/>
        <c:axId val="85860053"/>
      </c:barChart>
      <c:catAx>
        <c:axId val="8429464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60053"/>
        <c:crossesAt val="0"/>
        <c:auto val="1"/>
        <c:lblAlgn val="ctr"/>
        <c:lblOffset val="100"/>
        <c:noMultiLvlLbl val="0"/>
      </c:catAx>
      <c:valAx>
        <c:axId val="85860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9464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1" spc="-1" strike="noStrike">
                <a:solidFill>
                  <a:srgbClr val="000000"/>
                </a:solidFill>
                <a:latin typeface="Arial"/>
              </a:defRPr>
            </a:pPr>
            <a:r>
              <a:rPr b="0" sz="1081" spc="-1" strike="noStrike">
                <a:solidFill>
                  <a:srgbClr val="000000"/>
                </a:solidFill>
                <a:latin typeface="Arial"/>
              </a:rPr>
              <a:t>EERM MARÇO VESPERTINO</a:t>
            </a:r>
          </a:p>
        </c:rich>
      </c:tx>
      <c:layout>
        <c:manualLayout>
          <c:xMode val="edge"/>
          <c:yMode val="edge"/>
          <c:x val="0.447668992489223"/>
          <c:y val="0.01999750031246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56480439945007"/>
          <c:w val="0.959957335229545"/>
          <c:h val="0.82314710661167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19</c:v>
                </c:pt>
                <c:pt idx="3">
                  <c:v>11</c:v>
                </c:pt>
                <c:pt idx="4">
                  <c:v>1</c:v>
                </c:pt>
                <c:pt idx="5">
                  <c:v>2</c:v>
                </c:pt>
                <c:pt idx="6">
                  <c:v>4</c:v>
                </c:pt>
                <c:pt idx="7">
                  <c:v>6</c:v>
                </c:pt>
                <c:pt idx="8">
                  <c:v>2</c:v>
                </c:pt>
                <c:pt idx="9">
                  <c:v>0</c:v>
                </c:pt>
                <c:pt idx="10">
                  <c:v>0</c:v>
                </c:pt>
                <c:pt idx="11">
                  <c:v>2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41690962099125</c:v>
                </c:pt>
                <c:pt idx="1">
                  <c:v>5.17492711370262</c:v>
                </c:pt>
                <c:pt idx="2">
                  <c:v>14.4897959183673</c:v>
                </c:pt>
                <c:pt idx="3">
                  <c:v>13.4548104956268</c:v>
                </c:pt>
                <c:pt idx="4">
                  <c:v>6.83090379008746</c:v>
                </c:pt>
                <c:pt idx="5">
                  <c:v>6.83090379008746</c:v>
                </c:pt>
                <c:pt idx="6">
                  <c:v>3.31195335276968</c:v>
                </c:pt>
                <c:pt idx="7">
                  <c:v>5.58892128279883</c:v>
                </c:pt>
                <c:pt idx="8">
                  <c:v>1.24198250728863</c:v>
                </c:pt>
                <c:pt idx="9">
                  <c:v>1.65597667638484</c:v>
                </c:pt>
                <c:pt idx="10">
                  <c:v>1.44897959183673</c:v>
                </c:pt>
                <c:pt idx="11">
                  <c:v>1.24198250728863</c:v>
                </c:pt>
                <c:pt idx="12">
                  <c:v>0.620991253644315</c:v>
                </c:pt>
                <c:pt idx="13">
                  <c:v>0.41399416909621</c:v>
                </c:pt>
                <c:pt idx="14">
                  <c:v>1.03498542274052</c:v>
                </c:pt>
                <c:pt idx="15">
                  <c:v>1.24198250728863</c:v>
                </c:pt>
              </c:numCache>
            </c:numRef>
          </c:val>
        </c:ser>
        <c:gapWidth val="100"/>
        <c:overlap val="0"/>
        <c:axId val="95977556"/>
        <c:axId val="5204168"/>
      </c:barChart>
      <c:catAx>
        <c:axId val="9597755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4168"/>
        <c:crossesAt val="0"/>
        <c:auto val="1"/>
        <c:lblAlgn val="ctr"/>
        <c:lblOffset val="100"/>
        <c:noMultiLvlLbl val="0"/>
      </c:catAx>
      <c:valAx>
        <c:axId val="5204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7755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EERM ABRIL VESPERTINO</a:t>
            </a:r>
          </a:p>
        </c:rich>
      </c:tx>
      <c:layout>
        <c:manualLayout>
          <c:xMode val="edge"/>
          <c:yMode val="edge"/>
          <c:x val="0.424226324877142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29645371231"/>
          <c:y val="0.209223847019123"/>
          <c:w val="0.959976977907646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5</c:v>
                </c:pt>
                <c:pt idx="2">
                  <c:v>9</c:v>
                </c:pt>
                <c:pt idx="3">
                  <c:v>7</c:v>
                </c:pt>
                <c:pt idx="4">
                  <c:v>1</c:v>
                </c:pt>
                <c:pt idx="5">
                  <c:v>4</c:v>
                </c:pt>
                <c:pt idx="6">
                  <c:v>7</c:v>
                </c:pt>
                <c:pt idx="7">
                  <c:v>4</c:v>
                </c:pt>
                <c:pt idx="8">
                  <c:v>4</c:v>
                </c:pt>
                <c:pt idx="9">
                  <c:v>7</c:v>
                </c:pt>
                <c:pt idx="10">
                  <c:v>0</c:v>
                </c:pt>
                <c:pt idx="11">
                  <c:v>4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96501457725948</c:v>
                </c:pt>
                <c:pt idx="1">
                  <c:v>4.81049562682216</c:v>
                </c:pt>
                <c:pt idx="2">
                  <c:v>13.469387755102</c:v>
                </c:pt>
                <c:pt idx="3">
                  <c:v>12.5072886297376</c:v>
                </c:pt>
                <c:pt idx="4">
                  <c:v>6.34985422740525</c:v>
                </c:pt>
                <c:pt idx="5">
                  <c:v>6.34985422740525</c:v>
                </c:pt>
                <c:pt idx="6">
                  <c:v>3.07871720116618</c:v>
                </c:pt>
                <c:pt idx="7">
                  <c:v>5.19533527696793</c:v>
                </c:pt>
                <c:pt idx="8">
                  <c:v>1.15451895043732</c:v>
                </c:pt>
                <c:pt idx="9">
                  <c:v>1.53935860058309</c:v>
                </c:pt>
                <c:pt idx="10">
                  <c:v>1.3469387755102</c:v>
                </c:pt>
                <c:pt idx="11">
                  <c:v>1.15451895043732</c:v>
                </c:pt>
                <c:pt idx="12">
                  <c:v>0.577259475218659</c:v>
                </c:pt>
                <c:pt idx="13">
                  <c:v>0.384839650145773</c:v>
                </c:pt>
                <c:pt idx="14">
                  <c:v>0.962099125364431</c:v>
                </c:pt>
                <c:pt idx="15">
                  <c:v>1.15451895043732</c:v>
                </c:pt>
              </c:numCache>
            </c:numRef>
          </c:val>
        </c:ser>
        <c:gapWidth val="100"/>
        <c:overlap val="0"/>
        <c:axId val="58529176"/>
        <c:axId val="55201016"/>
      </c:barChart>
      <c:catAx>
        <c:axId val="5852917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01016"/>
        <c:crossesAt val="0"/>
        <c:auto val="1"/>
        <c:lblAlgn val="ctr"/>
        <c:lblOffset val="100"/>
        <c:noMultiLvlLbl val="0"/>
      </c:catAx>
      <c:valAx>
        <c:axId val="55201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2917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EERM MAIO VESPERTINO</a:t>
            </a:r>
          </a:p>
        </c:rich>
      </c:tx>
      <c:layout>
        <c:manualLayout>
          <c:xMode val="edge"/>
          <c:yMode val="edge"/>
          <c:x val="0.424558908492956"/>
          <c:y val="0.020263964804692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305425943208"/>
          <c:w val="0.959912892760322"/>
          <c:h val="0.7696307159045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0</c:v>
                </c:pt>
                <c:pt idx="3">
                  <c:v>4</c:v>
                </c:pt>
                <c:pt idx="4">
                  <c:v>0</c:v>
                </c:pt>
                <c:pt idx="5">
                  <c:v>0</c:v>
                </c:pt>
                <c:pt idx="6">
                  <c:v>7</c:v>
                </c:pt>
                <c:pt idx="7">
                  <c:v>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79591836734694</c:v>
                </c:pt>
                <c:pt idx="1">
                  <c:v>3.06122448979592</c:v>
                </c:pt>
                <c:pt idx="2">
                  <c:v>8.57142857142857</c:v>
                </c:pt>
                <c:pt idx="3">
                  <c:v>7.95918367346939</c:v>
                </c:pt>
                <c:pt idx="4">
                  <c:v>4.04081632653061</c:v>
                </c:pt>
                <c:pt idx="5">
                  <c:v>4.04081632653061</c:v>
                </c:pt>
                <c:pt idx="6">
                  <c:v>1.95918367346939</c:v>
                </c:pt>
                <c:pt idx="7">
                  <c:v>3.30612244897959</c:v>
                </c:pt>
                <c:pt idx="8">
                  <c:v>0.73469387755102</c:v>
                </c:pt>
                <c:pt idx="9">
                  <c:v>0.979591836734694</c:v>
                </c:pt>
                <c:pt idx="10">
                  <c:v>0.857142857142857</c:v>
                </c:pt>
                <c:pt idx="11">
                  <c:v>0.73469387755102</c:v>
                </c:pt>
                <c:pt idx="12">
                  <c:v>0.36734693877551</c:v>
                </c:pt>
                <c:pt idx="13">
                  <c:v>0.244897959183673</c:v>
                </c:pt>
                <c:pt idx="14">
                  <c:v>0.612244897959184</c:v>
                </c:pt>
                <c:pt idx="15">
                  <c:v>0.73469387755102</c:v>
                </c:pt>
              </c:numCache>
            </c:numRef>
          </c:val>
        </c:ser>
        <c:gapWidth val="100"/>
        <c:overlap val="0"/>
        <c:axId val="7475619"/>
        <c:axId val="66816120"/>
      </c:barChart>
      <c:catAx>
        <c:axId val="747561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16120"/>
        <c:crossesAt val="0"/>
        <c:auto val="1"/>
        <c:lblAlgn val="ctr"/>
        <c:lblOffset val="100"/>
        <c:noMultiLvlLbl val="0"/>
      </c:catAx>
      <c:valAx>
        <c:axId val="668161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561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0" spc="-1" strike="noStrike">
                <a:solidFill>
                  <a:srgbClr val="000000"/>
                </a:solidFill>
                <a:latin typeface="Arial"/>
              </a:defRPr>
            </a:pPr>
            <a:r>
              <a:rPr b="1" sz="1490" spc="-1" strike="noStrike">
                <a:solidFill>
                  <a:srgbClr val="000000"/>
                </a:solidFill>
                <a:latin typeface="Arial"/>
              </a:rPr>
              <a:t>EERM  VESPERTINO</a:t>
            </a:r>
          </a:p>
        </c:rich>
      </c:tx>
      <c:layout>
        <c:manualLayout>
          <c:xMode val="edge"/>
          <c:yMode val="edge"/>
          <c:x val="0.353495400204435"/>
          <c:y val="0.020263964804692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305425943208"/>
          <c:w val="0.959957335229545"/>
          <c:h val="0.7700306625783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1</c:v>
                </c:pt>
                <c:pt idx="2">
                  <c:v>3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3</c:v>
                </c:pt>
                <c:pt idx="9">
                  <c:v>1</c:v>
                </c:pt>
                <c:pt idx="10">
                  <c:v>0</c:v>
                </c:pt>
                <c:pt idx="11">
                  <c:v>2</c:v>
                </c:pt>
                <c:pt idx="12">
                  <c:v>5</c:v>
                </c:pt>
                <c:pt idx="13">
                  <c:v>3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3343023255814</c:v>
                </c:pt>
                <c:pt idx="1">
                  <c:v>2.68895348837209</c:v>
                </c:pt>
                <c:pt idx="2">
                  <c:v>7.52906976744186</c:v>
                </c:pt>
                <c:pt idx="3">
                  <c:v>6.99127906976744</c:v>
                </c:pt>
                <c:pt idx="4">
                  <c:v>3.54941860465116</c:v>
                </c:pt>
                <c:pt idx="5">
                  <c:v>3.54941860465116</c:v>
                </c:pt>
                <c:pt idx="6">
                  <c:v>1.72093023255814</c:v>
                </c:pt>
                <c:pt idx="7">
                  <c:v>2.90406976744186</c:v>
                </c:pt>
                <c:pt idx="8">
                  <c:v>0.645348837209302</c:v>
                </c:pt>
                <c:pt idx="9">
                  <c:v>0.86046511627907</c:v>
                </c:pt>
                <c:pt idx="10">
                  <c:v>0.752906976744186</c:v>
                </c:pt>
                <c:pt idx="11">
                  <c:v>0.645348837209302</c:v>
                </c:pt>
                <c:pt idx="12">
                  <c:v>0.322674418604651</c:v>
                </c:pt>
                <c:pt idx="13">
                  <c:v>0.322674418604651</c:v>
                </c:pt>
                <c:pt idx="14">
                  <c:v>0.537790697674419</c:v>
                </c:pt>
                <c:pt idx="15">
                  <c:v>0.645348837209302</c:v>
                </c:pt>
              </c:numCache>
            </c:numRef>
          </c:val>
        </c:ser>
        <c:gapWidth val="100"/>
        <c:overlap val="0"/>
        <c:axId val="98536778"/>
        <c:axId val="24315828"/>
      </c:barChart>
      <c:catAx>
        <c:axId val="9853677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15828"/>
        <c:crossesAt val="0"/>
        <c:auto val="1"/>
        <c:lblAlgn val="ctr"/>
        <c:lblOffset val="100"/>
        <c:noMultiLvlLbl val="0"/>
      </c:catAx>
      <c:valAx>
        <c:axId val="24315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3677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1" spc="-1" strike="noStrike">
                <a:solidFill>
                  <a:srgbClr val="000000"/>
                </a:solidFill>
                <a:latin typeface="Arial"/>
              </a:defRPr>
            </a:pPr>
            <a:r>
              <a:rPr b="0" sz="1081" spc="-1" strike="noStrike">
                <a:solidFill>
                  <a:srgbClr val="000000"/>
                </a:solidFill>
                <a:latin typeface="Arial"/>
              </a:rPr>
              <a:t>EERM MARÇO NOTURNO</a:t>
            </a:r>
          </a:p>
        </c:rich>
      </c:tx>
      <c:layout>
        <c:manualLayout>
          <c:xMode val="edge"/>
          <c:yMode val="edge"/>
          <c:x val="0.459135149548909"/>
          <c:y val="0.019995001249687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56335916020995"/>
          <c:w val="0.959912892760322"/>
          <c:h val="0.82279430142464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3</c:v>
                </c:pt>
                <c:pt idx="2">
                  <c:v>11</c:v>
                </c:pt>
                <c:pt idx="3">
                  <c:v>4</c:v>
                </c:pt>
                <c:pt idx="4">
                  <c:v>3</c:v>
                </c:pt>
                <c:pt idx="5">
                  <c:v>0</c:v>
                </c:pt>
                <c:pt idx="6">
                  <c:v>8</c:v>
                </c:pt>
                <c:pt idx="7">
                  <c:v>4</c:v>
                </c:pt>
                <c:pt idx="8">
                  <c:v>5</c:v>
                </c:pt>
                <c:pt idx="9">
                  <c:v>0</c:v>
                </c:pt>
                <c:pt idx="10">
                  <c:v>2</c:v>
                </c:pt>
                <c:pt idx="11">
                  <c:v>0</c:v>
                </c:pt>
                <c:pt idx="12">
                  <c:v>3</c:v>
                </c:pt>
                <c:pt idx="13">
                  <c:v>4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04819277108434</c:v>
                </c:pt>
                <c:pt idx="1">
                  <c:v>3.04819277108434</c:v>
                </c:pt>
                <c:pt idx="2">
                  <c:v>10.8072289156627</c:v>
                </c:pt>
                <c:pt idx="3">
                  <c:v>9.97590361445783</c:v>
                </c:pt>
                <c:pt idx="4">
                  <c:v>6.92771084337349</c:v>
                </c:pt>
                <c:pt idx="5">
                  <c:v>6.92771084337349</c:v>
                </c:pt>
                <c:pt idx="6">
                  <c:v>6.92771084337349</c:v>
                </c:pt>
                <c:pt idx="7">
                  <c:v>2.49397590361446</c:v>
                </c:pt>
                <c:pt idx="8">
                  <c:v>4.43373493975904</c:v>
                </c:pt>
                <c:pt idx="9">
                  <c:v>5.26506024096386</c:v>
                </c:pt>
                <c:pt idx="10">
                  <c:v>4.71084337349398</c:v>
                </c:pt>
                <c:pt idx="11">
                  <c:v>2.21686746987952</c:v>
                </c:pt>
                <c:pt idx="12">
                  <c:v>1.3855421686747</c:v>
                </c:pt>
                <c:pt idx="13">
                  <c:v>0.831325301204819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74365157"/>
        <c:axId val="11311145"/>
      </c:barChart>
      <c:catAx>
        <c:axId val="7436515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11145"/>
        <c:crossesAt val="0"/>
        <c:auto val="1"/>
        <c:lblAlgn val="ctr"/>
        <c:lblOffset val="100"/>
        <c:noMultiLvlLbl val="0"/>
      </c:catAx>
      <c:valAx>
        <c:axId val="11311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6515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31A7-F735-48B5-A17F-50D56F243FF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86C9-3523-47D8-B541-D26FCD36721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DC12-2C8F-4FF0-B67D-9D283B1B47B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90F8-E388-4728-9359-37AE9693332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6FB6-6E13-448F-83F3-3606C111744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2107-2E9C-4F6A-B16B-C076B8BE58C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2B3D-E4BC-4CCA-BB60-244F98155EF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3E6D-E940-4EC5-8B11-42C4308413B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A97C-CDF7-4946-974A-C951FBC1268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9225-10E7-4867-A954-60ED2287722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71B9-4250-440A-A2F2-42CF605323A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C189-4510-4C4D-BC9A-C68CD0B8991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0E93-2463-4BBD-8492-CA2F2CD9654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8D3-9A03-4E34-804E-B7C151DF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73E-D000-4882-A573-AF2D2C08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CE5-D3D0-43A1-8D0D-943BE1DA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94D-D395-46F3-85E2-49DF7D41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06D4-EA7C-414B-BC11-4F3EECD2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91B8-5FA1-4EC6-9A9E-20B1A02F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6EE8-C0BA-4D09-BDB6-A47035EC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0736-2C3C-43DE-AD9F-C95CE9AD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DE45-DA81-40A2-90B2-089AC32A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23B0-E741-4248-99B2-054E2302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76EE-131B-46CB-B208-AA13CE34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F30-034B-4DB9-934B-6CD8F60E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B491-FA92-42A2-BED0-7B2AFF0F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61BC-EFF0-4073-B261-2D821556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66D8-B770-43D5-B8E3-77F2E1E0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D0D1-685C-4703-84AE-4C641F66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A8D8-CB28-4CC5-B5EC-0340B984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BEB87-185B-47E3-9CD1-EF459E89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2A4E1-161E-40D1-89A6-850F205D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5869D-185B-4330-9851-5E7B1B50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25E9D-9EA9-4042-AA34-DE0BD731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21588-AA0B-4EC7-ABFA-BB28A0E2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C1C-E25F-44F1-A9C4-62BD9AA3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18DAC4-653D-466A-AF7F-25A43D93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A44CF-8EB7-4A84-B905-36D97471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13E3F-98BD-4C9C-8E2D-CEDB2A90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43D53-4A54-4325-AA7A-BFFDED44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C91C0-1A34-4A03-8720-A6FE2458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6DB6E-7214-4A8C-A4C6-7C829E8A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E63D3-3876-48AD-9C27-CE7154A0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10BE9-DE3F-447F-B3A9-06AF26C8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5229D-961D-422A-AC30-414E9168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E71AB3-A84B-4742-82B5-954CB49E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962-0B78-4C88-BB12-7DEACD16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EBD0F0-9227-4E5A-9441-73C81C9D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734DE5-9962-483F-B4A4-6B8AE5B7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6ED690-6053-469A-B9BB-7CC2D255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96B0D6-6AB2-4BE2-AE0A-4060F59E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0F4D4-DF89-4B7F-B113-C97D5974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D982FA-70E8-4130-A4A9-33466996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F0A4CE-0099-4FF3-88F1-D5E4340B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9F8E1E-547B-4755-BBA2-23122A4A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28AA7-7B71-4D48-821B-C0BD5D15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2E0976-3E10-4683-AC90-F54CB36A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369-E532-4F37-A802-BB6E0EC9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06C64-5878-48C6-B327-82A42D8E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57095-D3B1-4A63-A5BF-18EFD701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B0D957-D5E3-42DA-8D37-606AB100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80130-CAAF-4B08-B139-3E82099B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B3246E-6132-44E5-A348-DB0F0A5B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E6849B-24D8-4C9F-9BF0-812A71E9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17BB04-5C81-4B17-A36C-0D05F7D5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6BE12C-AE41-4103-B47A-CF940BAB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67652-6421-4597-95FF-D8DA95AE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8E8D68-8324-4577-988D-FF281FCE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C7D-B8FF-4B4F-A377-9725E01A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569382-18E6-47A3-B8C6-E4DAF718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8114D-FC4F-4136-B46F-B50F3BAD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1097B-1433-462D-8BC9-BD111EDA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ED0F4-ECEB-4114-B64B-DC641583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6DB55-6A18-4DEB-8616-606372E7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B8706-75C5-4A73-A3F6-17C0C810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F40CA-C55A-4DAA-9048-A5265422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59425-6B25-4B45-9EEC-2E3B0043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0916F-590F-4986-99FA-55ABB33C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68BBB-94D3-4A94-8BF3-BF928F9A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C83B-6F2C-4846-ACB9-55AE8042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2F2C2-5E48-44C7-9C17-B3CDDC2F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4F582-E778-4548-9064-21F454FD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35C60-8495-4E3C-950A-10E61706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348D05-89B7-4C15-A215-EDD4B011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77E5CE-DAB6-42F1-B717-4BA85858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BC7E71-E48A-40F3-94E0-60FAD281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6BBDE5-ADF3-4EB4-9CCB-427A2F84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A5C86-C744-40E7-9D02-7068879F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D29E9-9752-4C36-8C2B-E7DC4B02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2533F7-5CE8-45D6-ADA0-BC87D58D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504-9E78-4FAA-95FA-E70D4814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DB980D-F2B8-40C0-B4B2-3499A025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BE6446-66D9-437B-8830-0190B00D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4E5C26-EF22-45FC-A73B-5774AD72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CEAC5B-BC1F-44A7-B52C-F84C8696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D9D5B6-8A07-47E7-98E4-6E1395F4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09A47-4FCB-40D1-8408-154EEC88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3A6FB-A817-4BC0-843D-301078EC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9CB3A-8275-474A-9C73-DF5E3A58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C3B49-3070-4BFA-9853-C47E8B2B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40985-CF81-442E-813F-7B97406B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4EE-36D1-45B2-A6ED-718D05EE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451E9-549F-4944-B0CF-166F33D2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205A1-6DE4-4A75-8869-06122F90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5460B-D54F-49B2-944C-CA416ED8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E56C3-2C86-46A1-908D-00EFB636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68B4F-E849-4E73-8EE0-748BE88C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36452-E440-45EA-A3C0-997E45DA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C9D82-A009-42B6-82E1-4C40031E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67BD-6F39-4188-9225-34EEE54993FF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ângulo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ângulo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C254-DBFD-4BD7-8AF5-EBC1DA3C7B75}" type="slidenum"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tângulo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ângulo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0B95-A849-47F3-AA72-951BD6CC3A94}" type="slidenum"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DC07-F941-491F-A3D5-85E8595029C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ângu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tângu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A9DA-AD93-40CA-9F65-7039BF16396B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1258-AE8A-4FEB-9C6F-8B0BB35F1C16}" type="slidenum"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tângulo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tângulo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tângulo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tângulo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F6E6-40E2-4302-B33F-942095AB7404}" type="slidenum"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tângulo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ângulo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tângulo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775f55"/>
                </a:solidFill>
                <a:latin typeface="Times New Roman"/>
              </a:rPr>
              <a:t>Professora Multiplicadora Carla Va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5229-1863-4088-A0EE-675F931C9567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chart" Target="../charts/chart1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chart" Target="../charts/chart1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775f55"/>
                </a:solidFill>
                <a:latin typeface="Tw Cen MT"/>
              </a:rPr>
              <a:t>E. E. REYNALDO MASS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w Cen MT"/>
              </a:rPr>
              <a:t>NTE – NOVA ANDRADI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Espaço Reservado para Rodapé 3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39640" y="1642680"/>
            <a:ext cx="36165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Curso LINUX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ATAC II – Ambientes Tecnológicos de Aprendizagem Colaborativa e Proinfo integrado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4788000" y="1643040"/>
            <a:ext cx="43560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concluído em Nova Andradin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1428480"/>
            <a:ext cx="914400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000099"/>
                </a:solidFill>
                <a:latin typeface="Tw Cen MT"/>
              </a:rPr>
              <a:t>PELA STE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0920" y="1571400"/>
            <a:ext cx="36162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Elaboração e apresentação do Plano de Ação 2009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Preenchimento do relatório do PNUD Brasil Ponto a Ponto pelos alunos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ffff"/>
                </a:solidFill>
                <a:latin typeface="Tw Cen MT"/>
              </a:rPr>
              <a:t>Acompanhamento das atividades desenvolvidas pelos professores regentes;</a:t>
            </a: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4859280" y="1643040"/>
            <a:ext cx="361800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15/03 a 15/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09/03 a 16/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03/03 a 10/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m andamento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39640" y="1643040"/>
            <a:ext cx="3616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w Cen MT"/>
              </a:rPr>
              <a:t>Pesquisa com professores regentes sobre os cursos que poderão ser ofertados pelos professores da STE;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Criação e alimentação página WIKI da esco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Curso Básico de Informática (CBIV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4643280" y="1643040"/>
            <a:ext cx="450072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15/03 a 15/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07/04 a 10/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parcialmente executad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25/05 a 29/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( executada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99680" y="1571400"/>
            <a:ext cx="36162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Elaboração  Projeto I Encontro PST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Execução Projeto I Encontro PST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Auxilio na elaboração de projetos individua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200" spc="-1" strike="noStrike">
                <a:solidFill>
                  <a:srgbClr val="ffffff"/>
                </a:solidFill>
                <a:latin typeface="Tw Cen MT"/>
              </a:rPr>
              <a:t>TV Escola análise e divulgação junto aos docentes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5003640" y="1571760"/>
            <a:ext cx="361656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04/05 a 29/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 executa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01 a 30/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 em andamen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bril a dezembr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bril a dezembro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em andamento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99"/>
                </a:solidFill>
                <a:latin typeface="Tw Cen MT"/>
              </a:rPr>
              <a:t>ESTATÍSTICA</a:t>
            </a:r>
            <a:endParaRPr b="0" lang="en-US" sz="7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475920"/>
            <a:ext cx="9144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w Cen MT"/>
              </a:rPr>
              <a:t>MATUTIN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w Cen MT"/>
              </a:rPr>
              <a:t>MARÇO – ABRIL– MAIO - JUNH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w Cen MT"/>
              </a:rPr>
              <a:t>CLEMILTON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>
              <a:spcBef>
                <a:spcPts val="9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6215040" y="214200"/>
            <a:ext cx="27226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RÇ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6"/>
          <p:cNvGraphicFramePr/>
          <p:nvPr/>
        </p:nvGraphicFramePr>
        <p:xfrm>
          <a:off x="0" y="1214280"/>
          <a:ext cx="9144000" cy="3252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2" name="Object 7"/>
          <p:cNvGraphicFramePr/>
          <p:nvPr/>
        </p:nvGraphicFramePr>
        <p:xfrm>
          <a:off x="2571840" y="4621320"/>
          <a:ext cx="4143240" cy="157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2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1840" y="4621320"/>
                    <a:ext cx="414324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ABRI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5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6"/>
          <p:cNvGraphicFramePr/>
          <p:nvPr/>
        </p:nvGraphicFramePr>
        <p:xfrm>
          <a:off x="0" y="1285920"/>
          <a:ext cx="9144000" cy="3238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7" name="Object 7"/>
          <p:cNvGraphicFramePr/>
          <p:nvPr/>
        </p:nvGraphicFramePr>
        <p:xfrm>
          <a:off x="2428920" y="4567320"/>
          <a:ext cx="4333680" cy="1647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2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4567320"/>
                    <a:ext cx="433368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6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32" name="Object 7"/>
          <p:cNvGraphicFramePr/>
          <p:nvPr/>
        </p:nvGraphicFramePr>
        <p:xfrm>
          <a:off x="2428920" y="4576680"/>
          <a:ext cx="4308480" cy="163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4576680"/>
                    <a:ext cx="43084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GRUPO COMO UNO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Espaço Reservado para Rodapé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48"/>
          <p:cNvGrpSpPr/>
          <p:nvPr/>
        </p:nvGrpSpPr>
        <p:grpSpPr>
          <a:xfrm>
            <a:off x="1143000" y="1643040"/>
            <a:ext cx="6337080" cy="4651920"/>
            <a:chOff x="1143000" y="1643040"/>
            <a:chExt cx="6337080" cy="4651920"/>
          </a:xfrm>
        </p:grpSpPr>
        <p:grpSp>
          <p:nvGrpSpPr>
            <p:cNvPr id="363" name="Group 33"/>
            <p:cNvGrpSpPr/>
            <p:nvPr/>
          </p:nvGrpSpPr>
          <p:grpSpPr>
            <a:xfrm>
              <a:off x="2079360" y="5530680"/>
              <a:ext cx="5400720" cy="764280"/>
              <a:chOff x="2079360" y="5530680"/>
              <a:chExt cx="5400720" cy="764280"/>
            </a:xfrm>
          </p:grpSpPr>
          <p:sp>
            <p:nvSpPr>
              <p:cNvPr id="364" name="Text Box 14"/>
              <p:cNvSpPr/>
              <p:nvPr/>
            </p:nvSpPr>
            <p:spPr>
              <a:xfrm>
                <a:off x="2079360" y="5530680"/>
                <a:ext cx="1008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400" spc="-1" strike="noStrike">
                    <a:solidFill>
                      <a:srgbClr val="000000"/>
                    </a:solidFill>
                    <a:latin typeface="Arial"/>
                  </a:rPr>
                  <a:t>72</a:t>
                </a:r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18"/>
              <p:cNvSpPr/>
              <p:nvPr/>
            </p:nvSpPr>
            <p:spPr>
              <a:xfrm>
                <a:off x="2871360" y="5964120"/>
                <a:ext cx="64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9"/>
              <p:cNvSpPr/>
              <p:nvPr/>
            </p:nvSpPr>
            <p:spPr>
              <a:xfrm>
                <a:off x="3519360" y="5530680"/>
                <a:ext cx="165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000" spc="-1" strike="noStrike">
                    <a:solidFill>
                      <a:srgbClr val="000099"/>
                    </a:solidFill>
                    <a:latin typeface="Arial"/>
                  </a:rPr>
                  <a:t>500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21"/>
              <p:cNvSpPr/>
              <p:nvPr/>
            </p:nvSpPr>
            <p:spPr>
              <a:xfrm>
                <a:off x="4959000" y="596412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22"/>
              <p:cNvSpPr/>
              <p:nvPr/>
            </p:nvSpPr>
            <p:spPr>
              <a:xfrm>
                <a:off x="5535360" y="5530680"/>
                <a:ext cx="1944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4000" spc="-1" strike="noStrike">
                    <a:solidFill>
                      <a:srgbClr val="000000"/>
                    </a:solidFill>
                    <a:latin typeface="Arial"/>
                  </a:rPr>
                  <a:t>22.000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36"/>
            <p:cNvGrpSpPr/>
            <p:nvPr/>
          </p:nvGrpSpPr>
          <p:grpSpPr>
            <a:xfrm>
              <a:off x="1143000" y="1643040"/>
              <a:ext cx="6049800" cy="3671280"/>
              <a:chOff x="1143000" y="1643040"/>
              <a:chExt cx="6049800" cy="3671280"/>
            </a:xfrm>
          </p:grpSpPr>
          <p:sp>
            <p:nvSpPr>
              <p:cNvPr id="370" name="AutoShape 37"/>
              <p:cNvSpPr/>
              <p:nvPr/>
            </p:nvSpPr>
            <p:spPr>
              <a:xfrm flipV="1">
                <a:off x="2655720" y="1642680"/>
                <a:ext cx="3851640" cy="1495440"/>
              </a:xfrm>
              <a:custGeom>
                <a:avLst/>
                <a:gdLst>
                  <a:gd name="textAreaLeft" fmla="*/ 673920 w 3851640"/>
                  <a:gd name="textAreaRight" fmla="*/ 2792520 w 3851640"/>
                  <a:gd name="textAreaTop" fmla="*/ 200160 h 1495440"/>
                  <a:gd name="textAreaBottom" fmla="*/ 1295280 h 149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38"/>
              <p:cNvSpPr/>
              <p:nvPr/>
            </p:nvSpPr>
            <p:spPr>
              <a:xfrm>
                <a:off x="2725560" y="3818880"/>
                <a:ext cx="3710520" cy="1495440"/>
              </a:xfrm>
              <a:custGeom>
                <a:avLst/>
                <a:gdLst>
                  <a:gd name="textAreaLeft" fmla="*/ 649080 w 3710520"/>
                  <a:gd name="textAreaRight" fmla="*/ 2690280 w 3710520"/>
                  <a:gd name="textAreaTop" fmla="*/ 200160 h 1495440"/>
                  <a:gd name="textAreaBottom" fmla="*/ 1295280 h 1495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59" hR="21600" stAng="10800000" swAng="-5400000"/>
                    <a:lnTo>
                      <a:pt x="11881" y="21600"/>
                    </a:lnTo>
                    <a:arcTo wR="7559" hR="21600" stAng="5400000" swAng="-2682296"/>
                    <a:lnTo>
                      <a:pt x="21168" y="7200"/>
                    </a:lnTo>
                    <a:lnTo>
                      <a:pt x="17278" y="0"/>
                    </a:lnTo>
                    <a:lnTo>
                      <a:pt x="12524" y="7200"/>
                    </a:lnTo>
                    <a:lnTo>
                      <a:pt x="14685" y="7200"/>
                    </a:lnTo>
                    <a:arcTo wR="7559" hR="21600" stAng="2717704" swAng="2324676"/>
                    <a:lnTo>
                      <a:pt x="9720" y="20698"/>
                    </a:lnTo>
                    <a:arcTo wR="7559" hR="21600" stAng="5757620" swAng="5042380"/>
                    <a:close/>
                  </a:path>
                  <a:path fill="darkenLess" w="21600" h="21600">
                    <a:moveTo>
                      <a:pt x="0" y="0"/>
                    </a:moveTo>
                    <a:arcTo wR="7559" hR="21600" stAng="10800000" swAng="-5400000"/>
                    <a:lnTo>
                      <a:pt x="11881" y="21600"/>
                    </a:lnTo>
                    <a:arcTo wR="7559" hR="21600" stAng="5400000" swAng="357620"/>
                    <a:lnTo>
                      <a:pt x="9720" y="20698"/>
                    </a:lnTo>
                    <a:arcTo wR="7559" hR="21600" stAng="5757620" swAng="5042380"/>
                    <a:close/>
                  </a:path>
                </a:pathLst>
              </a:custGeom>
              <a:solidFill>
                <a:srgbClr val="94b6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39"/>
              <p:cNvSpPr/>
              <p:nvPr/>
            </p:nvSpPr>
            <p:spPr>
              <a:xfrm>
                <a:off x="1143000" y="3274920"/>
                <a:ext cx="604980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Arial"/>
                  </a:rPr>
                  <a:t>COTEC      NTE        ST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40"/>
              <p:cNvSpPr/>
              <p:nvPr/>
            </p:nvSpPr>
            <p:spPr>
              <a:xfrm>
                <a:off x="2243160" y="3886200"/>
                <a:ext cx="619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02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41"/>
              <p:cNvSpPr/>
              <p:nvPr/>
            </p:nvSpPr>
            <p:spPr>
              <a:xfrm>
                <a:off x="2519280" y="3682080"/>
                <a:ext cx="0" cy="20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42"/>
              <p:cNvSpPr/>
              <p:nvPr/>
            </p:nvSpPr>
            <p:spPr>
              <a:xfrm>
                <a:off x="4100040" y="3886200"/>
                <a:ext cx="61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09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43"/>
              <p:cNvSpPr/>
              <p:nvPr/>
            </p:nvSpPr>
            <p:spPr>
              <a:xfrm>
                <a:off x="4306320" y="3682080"/>
                <a:ext cx="0" cy="20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44"/>
              <p:cNvSpPr/>
              <p:nvPr/>
            </p:nvSpPr>
            <p:spPr>
              <a:xfrm>
                <a:off x="6025680" y="3886200"/>
                <a:ext cx="61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61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45"/>
              <p:cNvSpPr/>
              <p:nvPr/>
            </p:nvSpPr>
            <p:spPr>
              <a:xfrm>
                <a:off x="6093720" y="361512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46"/>
              <p:cNvSpPr/>
              <p:nvPr/>
            </p:nvSpPr>
            <p:spPr>
              <a:xfrm>
                <a:off x="6231600" y="3615120"/>
                <a:ext cx="0" cy="2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Espaço Reservado para Rodapé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JUNH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36" name="Object 2"/>
          <p:cNvGraphicFramePr/>
          <p:nvPr/>
        </p:nvGraphicFramePr>
        <p:xfrm>
          <a:off x="0" y="1214280"/>
          <a:ext cx="9144000" cy="3048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37" name="Object 3"/>
          <p:cNvGraphicFramePr/>
          <p:nvPr/>
        </p:nvGraphicFramePr>
        <p:xfrm>
          <a:off x="2571840" y="4394160"/>
          <a:ext cx="4357440" cy="165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1840" y="4394160"/>
                    <a:ext cx="43574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0" y="691920"/>
            <a:ext cx="91440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VESPERTIN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MARÇO- ABRIL – MAIO - JUNH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ESTEFAN</a:t>
            </a:r>
            <a:r>
              <a:rPr b="1" lang="pt-BR" sz="4000" spc="-1" strike="noStrike">
                <a:solidFill>
                  <a:srgbClr val="94b6d2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2233800" cy="1473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RÇ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Object 6"/>
          <p:cNvGraphicFramePr/>
          <p:nvPr/>
        </p:nvGraphicFramePr>
        <p:xfrm>
          <a:off x="0" y="1285920"/>
          <a:ext cx="9144000" cy="3286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45" name="Object 7"/>
          <p:cNvGraphicFramePr/>
          <p:nvPr/>
        </p:nvGraphicFramePr>
        <p:xfrm>
          <a:off x="2428920" y="4643280"/>
          <a:ext cx="4249800" cy="1616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4643280"/>
                    <a:ext cx="4249800" cy="16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ABRI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6"/>
          <p:cNvGraphicFramePr/>
          <p:nvPr/>
        </p:nvGraphicFramePr>
        <p:xfrm>
          <a:off x="0" y="1214280"/>
          <a:ext cx="9144000" cy="3238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50" name="Object 7"/>
          <p:cNvGraphicFramePr/>
          <p:nvPr/>
        </p:nvGraphicFramePr>
        <p:xfrm>
          <a:off x="2500200" y="4594320"/>
          <a:ext cx="4143600" cy="157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0200" y="4594320"/>
                    <a:ext cx="41436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3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Object 6"/>
          <p:cNvGraphicFramePr/>
          <p:nvPr/>
        </p:nvGraphicFramePr>
        <p:xfrm>
          <a:off x="0" y="1214280"/>
          <a:ext cx="9144000" cy="3048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55" name="Object 7"/>
          <p:cNvGraphicFramePr/>
          <p:nvPr/>
        </p:nvGraphicFramePr>
        <p:xfrm>
          <a:off x="2500200" y="4413240"/>
          <a:ext cx="4286520" cy="163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5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0200" y="4413240"/>
                    <a:ext cx="428652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Espaço Reservado para Rodapé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JUNH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59" name="Object 2"/>
          <p:cNvGraphicFramePr/>
          <p:nvPr/>
        </p:nvGraphicFramePr>
        <p:xfrm>
          <a:off x="0" y="1214280"/>
          <a:ext cx="9144000" cy="3048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60" name="Object 3"/>
          <p:cNvGraphicFramePr/>
          <p:nvPr/>
        </p:nvGraphicFramePr>
        <p:xfrm>
          <a:off x="2357280" y="4370400"/>
          <a:ext cx="4664160" cy="1773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7280" y="4370400"/>
                    <a:ext cx="466416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214200"/>
            <a:ext cx="9144000" cy="56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NOTURN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MARÇO – ABRIL – MAIO - JUNHO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34800" indent="-334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w Cen MT"/>
              </a:rPr>
              <a:t>VÂNIA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6929280" y="42876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RÇ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Object 6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68" name="Object 7"/>
          <p:cNvGraphicFramePr/>
          <p:nvPr/>
        </p:nvGraphicFramePr>
        <p:xfrm>
          <a:off x="2500200" y="4594320"/>
          <a:ext cx="4286520" cy="163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0200" y="4594320"/>
                    <a:ext cx="428652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ABRI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Object 6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73" name="Object 7"/>
          <p:cNvGraphicFramePr/>
          <p:nvPr/>
        </p:nvGraphicFramePr>
        <p:xfrm>
          <a:off x="2571840" y="4564080"/>
          <a:ext cx="4286160" cy="163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7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71840" y="4564080"/>
                    <a:ext cx="428616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MAI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6"/>
          <p:cNvGraphicFramePr/>
          <p:nvPr/>
        </p:nvGraphicFramePr>
        <p:xfrm>
          <a:off x="0" y="1214280"/>
          <a:ext cx="9144000" cy="3251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78" name="Object 7"/>
          <p:cNvGraphicFramePr/>
          <p:nvPr/>
        </p:nvGraphicFramePr>
        <p:xfrm>
          <a:off x="2214720" y="4562640"/>
          <a:ext cx="4429080" cy="1682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7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4720" y="4562640"/>
                    <a:ext cx="442908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w Cen MT"/>
              </a:rPr>
              <a:t>OBJETIVO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68360" y="1500120"/>
            <a:ext cx="82296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presentar alguns pontos que devem ser mudados para o bom andamento do trabalho na ST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presentar as ações que foram desenvolvidas pelos professores multiplicadores (NTE – STE) no 1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Apresentar, analisar e refletir a respeito do uso da STE da escola no 1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Elaborar cronograma de ações dos professores da STE no 2º semestre para formação in loc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Espaço Reservado para Rodapé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JUNH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82" name="Object 2"/>
          <p:cNvGraphicFramePr/>
          <p:nvPr/>
        </p:nvGraphicFramePr>
        <p:xfrm>
          <a:off x="0" y="1214280"/>
          <a:ext cx="9144000" cy="2845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83" name="Object 3"/>
          <p:cNvGraphicFramePr/>
          <p:nvPr/>
        </p:nvGraphicFramePr>
        <p:xfrm>
          <a:off x="2428920" y="4286160"/>
          <a:ext cx="4643280" cy="176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8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4286160"/>
                    <a:ext cx="464328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39640" y="285480"/>
            <a:ext cx="8229600" cy="57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w Cen MT"/>
              </a:rPr>
              <a:t>PONTOS PARA REFLETIR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2928960" y="2000160"/>
            <a:ext cx="2924280" cy="3757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8360" y="15717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A comunicação entre PNTE e PSTE deve ser constante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s e-mails devem ser lidos por todos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MSN deve ficar ligado no período em que o Professor da STE estiver na sala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s prazos deverão ser cumpridos, podendo ser alterado com justificativa prévia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Será responsabilizado o profissional que não cumprir com suas atribuições (professor do NTE, STE e professores regentes)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Será construído portfólio online das atividades desenvolvidas pelos alunos na STE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Todos os planos de aula dos professores deverão ser assinados pelo coordenador do turno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O professor com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20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horas, disponibilizará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18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aulas para ser usadas com professores e alunos,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4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aulas para planejamento junto aos coordenadores e professores regentes e </a:t>
            </a:r>
            <a:r>
              <a:rPr b="1" lang="pt-BR" sz="2800" spc="-1" strike="noStrike">
                <a:solidFill>
                  <a:srgbClr val="704404"/>
                </a:solidFill>
                <a:latin typeface="Tw Cen MT"/>
              </a:rPr>
              <a:t>2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para pesquisa externa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O quadro de planejamento mensal do professor da STE deverá se adequar ao horário de atividades do professor regente, acompanhado pelos coordenadores;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7168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plano de aula do professore regente deve prever no máximo </a:t>
            </a:r>
            <a:r>
              <a:rPr b="1" lang="pt-BR" sz="2900" spc="-1" strike="noStrike">
                <a:solidFill>
                  <a:srgbClr val="704404"/>
                </a:solidFill>
                <a:latin typeface="Tw Cen MT"/>
              </a:rPr>
              <a:t>2</a:t>
            </a: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 aulas, mais que isso é necessário projeto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O uso das mídias externas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68360" y="642600"/>
            <a:ext cx="822960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A função do coordenador pedagógico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w Cen MT"/>
              </a:rPr>
              <a:t>A função do diretor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"/>
          <p:cNvSpPr/>
          <p:nvPr/>
        </p:nvSpPr>
        <p:spPr>
          <a:xfrm>
            <a:off x="720720" y="2492280"/>
            <a:ext cx="7770960" cy="228852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quipe técnica e a pedagógica das unidades escolares, em especial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ordenação pedagóg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são as principais parceiras na garantia da efetiva utilização das ST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2320920" y="706320"/>
            <a:ext cx="5340240" cy="74628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TE – Sala de Tecnolo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professor2"/>
          <p:cNvPicPr/>
          <p:nvPr/>
        </p:nvPicPr>
        <p:blipFill>
          <a:blip r:embed="rId1"/>
          <a:stretch/>
        </p:blipFill>
        <p:spPr>
          <a:xfrm>
            <a:off x="247680" y="347760"/>
            <a:ext cx="2023920" cy="1517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1200240" y="1108080"/>
            <a:ext cx="3625920" cy="79200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lanejamen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584280" y="2752560"/>
            <a:ext cx="7889760" cy="302004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fessor de tecnologias deverá ficar atento quanto ao planejamento do professor regente que deverá ser entregue com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antecedência e com a ciência da coordenação pedagóg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que sejam disponibilizados os recursos necessários na STE e para que possam verificar as atividades a serem executadas pelos alunos e disponibilizá-las de acordo com o horário de aulas planejada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4" descr="planejamento_"/>
          <p:cNvPicPr/>
          <p:nvPr/>
        </p:nvPicPr>
        <p:blipFill>
          <a:blip r:embed="rId1"/>
          <a:stretch/>
        </p:blipFill>
        <p:spPr>
          <a:xfrm>
            <a:off x="4892760" y="841320"/>
            <a:ext cx="2254320" cy="150192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"/>
          <p:cNvSpPr/>
          <p:nvPr/>
        </p:nvSpPr>
        <p:spPr>
          <a:xfrm>
            <a:off x="387360" y="2084400"/>
            <a:ext cx="8327880" cy="342036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diretores e coordenadores pedagóg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vem acompanhar as aulas desenvolvidas nas STEs, observando o cumprimento das regras de utilização das mesmas para garantir o seu uso pedagógico e consciente, com vistas ao desenvolvimento do processo de ensino e aprendizagem de seus alunos, e assegurar a sua utilização, para que a mesma não 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fique ocios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590400" y="369720"/>
            <a:ext cx="8128080" cy="147348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dução pedagógica para a intensificaçã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o uso dos  recursos tecnológicos existent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as unidades escola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Tw Cen MT"/>
              </a:rPr>
              <a:t>ESTRUTURA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68360" y="157176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1. Apresentar as ações previstas, executadas e a executar pelos professores do NTE e STE no 1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2. Apresentar a realidade de uso da STE nos meses de março – abril – maio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3. Identificar os professores que usaram as tecnologias efetivamente no 1º semestre e os que não utilizaram e qual turno apresentou menos uso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4. Apresentar e discutir cronograma de ações NTE/STE para o 2º semestre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06520" y="214200"/>
            <a:ext cx="7408800" cy="79236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tribuições da Direção e equip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écnica pedagógica -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Resolução 2.127/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395280" y="1197000"/>
            <a:ext cx="8377200" cy="4664520"/>
          </a:xfrm>
          <a:prstGeom prst="rect">
            <a:avLst/>
          </a:prstGeom>
          <a:solidFill>
            <a:srgbClr val="00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ferecer, à Sala de Tecnologias Educacionais, condições de funcionamento, disponibilizando o material de consumo necessário ao desenvolvimento das atividad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ompanhar e avaliar as atividades desenvolvidas na Sala de Tecnologias Educaciona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segurar que os professores regentes cumpram, semanalmente, o planejamento das atividades na Sala de Tecnologias Educaciona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zelar pelo cumprimento da carga horária do professor de tecnologia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centivar o uso da Sala de Tecnologias Educacionais pelos professores regent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Espaço Reservado para Rodapé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26920" y="476280"/>
            <a:ext cx="6989760" cy="792000"/>
          </a:xfrm>
          <a:prstGeom prst="rect">
            <a:avLst/>
          </a:prstGeom>
          <a:solidFill>
            <a:srgbClr val="33cc33"/>
          </a:solidFill>
          <a:ln w="38160">
            <a:solidFill>
              <a:srgbClr val="339933"/>
            </a:solidFill>
            <a:miter/>
          </a:ln>
          <a:effectLst>
            <a:outerShdw dist="17819" dir="2700000" blurRad="0" rotWithShape="0">
              <a:srgbClr val="1f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tribuições da  direção equipe técnic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dagógica -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esolução 2.127/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042920" y="1413000"/>
            <a:ext cx="6624720" cy="4420800"/>
          </a:xfrm>
          <a:prstGeom prst="rect">
            <a:avLst/>
          </a:prstGeom>
          <a:solidFill>
            <a:srgbClr val="05b9dd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ompanhar o processo de seleção do professor de tecnologias, no âmbito da unidade escolar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zelar pela conservação e manutenção dos equipamentos, mobiliário e materiais da Sala de Tecnologias Educaciona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formar à Secretaria de Estado de Educação quaisquer irregularidades da Sala de Tecnologia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valiar o desempenho do professor de tecnologi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Espaço Reservado para Rodapé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Tw Cen MT"/>
              </a:rPr>
              <a:t>CRONOGRAMA AÇÕES NTE/ST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28760" y="1928880"/>
            <a:ext cx="822960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w Cen MT"/>
              </a:rPr>
              <a:t>Cronograma de Ação PNT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w Cen MT"/>
              </a:rPr>
              <a:t>Cronograma de Ação PST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w Cen MT"/>
              </a:rPr>
              <a:t>Cronograma Completo PNTE/PST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OBJETIVO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9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5"/>
          <p:cNvGrpSpPr/>
          <p:nvPr/>
        </p:nvGrpSpPr>
        <p:grpSpPr>
          <a:xfrm>
            <a:off x="1258920" y="1643040"/>
            <a:ext cx="6599160" cy="4233960"/>
            <a:chOff x="1258920" y="1643040"/>
            <a:chExt cx="6599160" cy="4233960"/>
          </a:xfrm>
        </p:grpSpPr>
        <p:pic>
          <p:nvPicPr>
            <p:cNvPr id="521" name="Picture 7" descr="share"/>
            <p:cNvPicPr/>
            <p:nvPr/>
          </p:nvPicPr>
          <p:blipFill>
            <a:blip r:embed="rId1"/>
            <a:stretch/>
          </p:blipFill>
          <p:spPr>
            <a:xfrm>
              <a:off x="1258920" y="1643040"/>
              <a:ext cx="6599160" cy="42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Text Box 8"/>
            <p:cNvSpPr/>
            <p:nvPr/>
          </p:nvSpPr>
          <p:spPr>
            <a:xfrm>
              <a:off x="2566080" y="3878280"/>
              <a:ext cx="91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9"/>
            <p:cNvSpPr/>
            <p:nvPr/>
          </p:nvSpPr>
          <p:spPr>
            <a:xfrm>
              <a:off x="4329720" y="4698360"/>
              <a:ext cx="91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S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1"/>
            <p:cNvSpPr/>
            <p:nvPr/>
          </p:nvSpPr>
          <p:spPr>
            <a:xfrm>
              <a:off x="6276960" y="3444120"/>
              <a:ext cx="91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COTE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12"/>
            <p:cNvSpPr/>
            <p:nvPr/>
          </p:nvSpPr>
          <p:spPr>
            <a:xfrm>
              <a:off x="3417840" y="2190240"/>
              <a:ext cx="182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ROFESSOR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3"/>
            <p:cNvSpPr/>
            <p:nvPr/>
          </p:nvSpPr>
          <p:spPr>
            <a:xfrm>
              <a:off x="3295800" y="3279600"/>
              <a:ext cx="304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400" spc="-1" strike="noStrike">
                  <a:solidFill>
                    <a:srgbClr val="ffffff"/>
                  </a:solidFill>
                  <a:latin typeface="Arial"/>
                </a:rPr>
                <a:t>ALUNOS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14"/>
            <p:cNvSpPr/>
            <p:nvPr/>
          </p:nvSpPr>
          <p:spPr>
            <a:xfrm>
              <a:off x="5789880" y="4533480"/>
              <a:ext cx="72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EM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24000" y="14256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99"/>
                </a:solidFill>
                <a:latin typeface="Tw Cen MT"/>
              </a:rPr>
              <a:t>AÇÕES PREVISTAS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99"/>
                </a:solidFill>
                <a:latin typeface="Tw Cen MT"/>
              </a:rPr>
              <a:t>EXECUTADAS E A EXECUTAR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5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337080" cy="4481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112500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PELO NTE - STE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99"/>
                </a:solidFill>
                <a:latin typeface="Tw Cen MT"/>
              </a:rPr>
              <a:t>1º SEMESTRE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640" y="1642680"/>
            <a:ext cx="36165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Reunião com os professores das STE e professores multiplicadores do NTE (NT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Visita às escolas (NT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w Cen MT"/>
              </a:rPr>
              <a:t>Orientação aos PSTE (NT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859280" y="1643040"/>
            <a:ext cx="3618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vereiro – març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executa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vereiro – març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executa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vereiro – dezemb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39640" y="1571400"/>
            <a:ext cx="388008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Acompanhamento das atividades desenvolvidas pelos PSTE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Curso informática básica (S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Projeto Brasil Ponto a Ponto (S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4788000" y="1571760"/>
            <a:ext cx="361764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rço a dezemb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rço – abril – ma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rço – abr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 executado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Espaço Reservado para Rodapé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75f55"/>
                </a:solidFill>
                <a:latin typeface="Arial"/>
              </a:rPr>
              <a:t>Professora Multiplicadora Carla Vare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4000" y="1571760"/>
            <a:ext cx="3616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Curso Tecnologias na Educação: ensinando e aprendendo com as TIC (N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w Cen MT"/>
              </a:rPr>
              <a:t>Projetos para I Encontro PSTE (STE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4788000" y="1571760"/>
            <a:ext cx="43560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bril – Outub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 em andamento em Nova Andradin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io - Julh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em andament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12:47Z</dcterms:created>
  <dc:creator>Windows</dc:creator>
  <dc:description/>
  <dc:language>en-US</dc:language>
  <cp:lastModifiedBy>MicroCarla</cp:lastModifiedBy>
  <dcterms:modified xsi:type="dcterms:W3CDTF">2009-07-30T22:48:08Z</dcterms:modified>
  <cp:revision>335</cp:revision>
  <dc:subject/>
  <dc:title>TECNOLOGIAS NA ESCOLA</dc:title>
</cp:coreProperties>
</file>